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146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7351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50440" y="1099800"/>
            <a:ext cx="7332840" cy="54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b">
            <a:noAutofit/>
          </a:bodyPr>
          <a:lstStyle>
            <a:lvl1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CF1CF36D-3FEA-4B45-B0A8-4884051B71D0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544D94B-A0F1-4CB6-B786-24DD9D06306E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450800" y="1100160"/>
            <a:ext cx="7332840" cy="549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23480" y="6965640"/>
            <a:ext cx="8186760" cy="65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797440" y="13926960"/>
            <a:ext cx="443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640" rIns="134640" tIns="67320" bIns="67320" anchor="b">
            <a:noAutofit/>
          </a:bodyPr>
          <a:p>
            <a:pPr algn="r">
              <a:tabLst>
                <a:tab algn="l" pos="0"/>
                <a:tab algn="l" pos="1346040"/>
                <a:tab algn="l" pos="2692440"/>
                <a:tab algn="l" pos="4038480"/>
                <a:tab algn="l" pos="5384880"/>
                <a:tab algn="l" pos="6730920"/>
                <a:tab algn="l" pos="8077320"/>
                <a:tab algn="l" pos="9423360"/>
                <a:tab algn="l" pos="10769760"/>
              </a:tabLst>
            </a:pPr>
            <a:fld id="{EFE6AD59-301C-4785-87F1-3BDC5E5644F6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454040" y="1100160"/>
            <a:ext cx="7329600" cy="54975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23480" y="6962760"/>
            <a:ext cx="818676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BF5-D463-41A1-8072-C4E1E2B8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CA7-9054-4391-979C-CE0AE71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8B3-D173-478A-BB92-4BDF21B5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0BB-33FA-4E9E-948E-A3C0FD7D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911-C3F5-4A7E-974C-E0C1222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03F-89B7-45E2-9E44-BCA42E7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4FB-93F7-48CE-A618-CB1862F4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82F-F31D-4AED-932D-0A0668CF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2E3-5A88-44AC-96E4-F5EF923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4C7-EB30-4175-903F-34CD4AA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74C-1F42-48BD-A49F-92E5B190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321-F5D6-4BA0-91AE-E7C861D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5B0-AAAE-483C-9964-882B2328E8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"/>
          <p:cNvSpPr/>
          <p:nvPr/>
        </p:nvSpPr>
        <p:spPr>
          <a:xfrm>
            <a:off x="4187880" y="620640"/>
            <a:ext cx="44164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Which regulatory obligations can be removed? Reasons for removing could be for exampl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is not used or seldom us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 risks are prevented or controlled. Examples are removing of permit systems, prohibitions and announcement obligation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veral regulations serve the same purpose. Permits could be integrated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6"/>
          <p:cNvSpPr/>
          <p:nvPr/>
        </p:nvSpPr>
        <p:spPr>
          <a:xfrm>
            <a:off x="4187880" y="50068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duction of time consumed by governmental bod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by (a) one of the previous steps and (b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7"/>
          <p:cNvSpPr/>
          <p:nvPr/>
        </p:nvSpPr>
        <p:spPr>
          <a:xfrm>
            <a:off x="4187880" y="5518080"/>
            <a:ext cx="4416480" cy="10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mprovement of service level of governmental bodies to citizens and businesses, aimed at aspects like accessibility and customer satisfa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king regulations quickly and easily accessible via internet, search engines, decision trees or offic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iving the proper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elping businesses with required actions for obligations instead of only accepting/rejecting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orking unambiguousl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eside these aspects governmental bodies could give businesses extra information concerning other relevant regulations. For instance by giving descriptions of these regulations or contact inform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8"/>
          <p:cNvSpPr/>
          <p:nvPr/>
        </p:nvSpPr>
        <p:spPr>
          <a:xfrm>
            <a:off x="1981080" y="3286080"/>
            <a:ext cx="7192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9"/>
          <p:cNvSpPr/>
          <p:nvPr/>
        </p:nvSpPr>
        <p:spPr>
          <a:xfrm>
            <a:off x="2340000" y="371808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2340000" y="4149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1"/>
          <p:cNvSpPr/>
          <p:nvPr/>
        </p:nvSpPr>
        <p:spPr>
          <a:xfrm>
            <a:off x="2340000" y="465300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2"/>
          <p:cNvSpPr/>
          <p:nvPr/>
        </p:nvSpPr>
        <p:spPr>
          <a:xfrm flipV="1">
            <a:off x="2340000" y="3285720"/>
            <a:ext cx="0" cy="18716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3"/>
          <p:cNvSpPr/>
          <p:nvPr/>
        </p:nvSpPr>
        <p:spPr>
          <a:xfrm>
            <a:off x="1260360" y="83988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4"/>
          <p:cNvSpPr/>
          <p:nvPr/>
        </p:nvSpPr>
        <p:spPr>
          <a:xfrm>
            <a:off x="1260360" y="1652760"/>
            <a:ext cx="273708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5"/>
          <p:cNvSpPr/>
          <p:nvPr/>
        </p:nvSpPr>
        <p:spPr>
          <a:xfrm>
            <a:off x="1332000" y="2455920"/>
            <a:ext cx="266544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6"/>
          <p:cNvSpPr/>
          <p:nvPr/>
        </p:nvSpPr>
        <p:spPr>
          <a:xfrm>
            <a:off x="3780000" y="3286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7"/>
          <p:cNvSpPr/>
          <p:nvPr/>
        </p:nvSpPr>
        <p:spPr>
          <a:xfrm>
            <a:off x="3780000" y="371808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8"/>
          <p:cNvSpPr/>
          <p:nvPr/>
        </p:nvSpPr>
        <p:spPr>
          <a:xfrm>
            <a:off x="3780000" y="4149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9"/>
          <p:cNvSpPr/>
          <p:nvPr/>
        </p:nvSpPr>
        <p:spPr>
          <a:xfrm>
            <a:off x="3780000" y="465300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0"/>
          <p:cNvSpPr/>
          <p:nvPr/>
        </p:nvSpPr>
        <p:spPr>
          <a:xfrm>
            <a:off x="2130120" y="612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1"/>
          <p:cNvSpPr/>
          <p:nvPr/>
        </p:nvSpPr>
        <p:spPr>
          <a:xfrm>
            <a:off x="2130120" y="14256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2"/>
          <p:cNvSpPr/>
          <p:nvPr/>
        </p:nvSpPr>
        <p:spPr>
          <a:xfrm>
            <a:off x="2130120" y="22287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3"/>
          <p:cNvSpPr/>
          <p:nvPr/>
        </p:nvSpPr>
        <p:spPr>
          <a:xfrm>
            <a:off x="2130120" y="3059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4"/>
          <p:cNvSpPr/>
          <p:nvPr/>
        </p:nvSpPr>
        <p:spPr>
          <a:xfrm>
            <a:off x="4211640" y="1449360"/>
            <a:ext cx="439272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 certain information obligations in regulation other instruments can be used to achieve the same  policy goal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announce system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prohibi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 dispensation instead of permit syste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4213080" y="2241720"/>
            <a:ext cx="4391280" cy="62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 order to acquire permits certain procedures (activities) have to be followed. By remov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n-functional parts of these procedures simplifications can be realiz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Examples are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supply of required information becomes unnecessary when governmental bodies use the information that is already available at other governmental bodi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tain explanations become unnecessary when governmental bodies do more research themselv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6"/>
          <p:cNvSpPr/>
          <p:nvPr/>
        </p:nvSpPr>
        <p:spPr>
          <a:xfrm>
            <a:off x="4213080" y="3141720"/>
            <a:ext cx="439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ncreasing selection-limits for determining which citizens or businesses belong to the target grou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narrowing the definition of the selection criter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7"/>
          <p:cNvSpPr/>
          <p:nvPr/>
        </p:nvSpPr>
        <p:spPr>
          <a:xfrm>
            <a:off x="4187880" y="35766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the number of times citizens or businesses need to fulfill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instance only require a report when things change instead of periodically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4187880" y="400680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owering of time consumed by simplifying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 For example the use of (a) ICT, (b) only asking for relevant information (c) streamlining of work process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4187880" y="4510080"/>
            <a:ext cx="4416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r instance (1) reduction of legal charges (2) lowering of costs by simplifying certain 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like less extra copies of appeal forms or evidenc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0"/>
          <p:cNvSpPr/>
          <p:nvPr/>
        </p:nvSpPr>
        <p:spPr>
          <a:xfrm>
            <a:off x="2340000" y="5157720"/>
            <a:ext cx="289080" cy="0"/>
          </a:xfrm>
          <a:prstGeom prst="line">
            <a:avLst/>
          </a:prstGeom>
          <a:ln w="12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1"/>
          <p:cNvSpPr/>
          <p:nvPr/>
        </p:nvSpPr>
        <p:spPr>
          <a:xfrm>
            <a:off x="3780000" y="5157720"/>
            <a:ext cx="28872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2"/>
          <p:cNvSpPr/>
          <p:nvPr/>
        </p:nvSpPr>
        <p:spPr>
          <a:xfrm>
            <a:off x="1405080" y="5816520"/>
            <a:ext cx="2592360" cy="0"/>
          </a:xfrm>
          <a:prstGeom prst="line">
            <a:avLst/>
          </a:prstGeom>
          <a:ln w="12600">
            <a:solidFill>
              <a:srgbClr val="808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3"/>
          <p:cNvSpPr/>
          <p:nvPr/>
        </p:nvSpPr>
        <p:spPr>
          <a:xfrm>
            <a:off x="2125440" y="55897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4"/>
          <p:cNvSpPr/>
          <p:nvPr/>
        </p:nvSpPr>
        <p:spPr>
          <a:xfrm>
            <a:off x="2484360" y="4005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c. Reduction of time involved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5"/>
          <p:cNvSpPr/>
          <p:nvPr/>
        </p:nvSpPr>
        <p:spPr>
          <a:xfrm>
            <a:off x="2484360" y="450864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d. Reduction of costs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6"/>
          <p:cNvSpPr/>
          <p:nvPr/>
        </p:nvSpPr>
        <p:spPr>
          <a:xfrm>
            <a:off x="2484360" y="314172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a. Reduction of target group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7"/>
          <p:cNvSpPr/>
          <p:nvPr/>
        </p:nvSpPr>
        <p:spPr>
          <a:xfrm>
            <a:off x="2484360" y="3573360"/>
            <a:ext cx="1370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166320" indent="-166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b. Reduction of                                   frequency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8"/>
          <p:cNvSpPr/>
          <p:nvPr/>
        </p:nvSpPr>
        <p:spPr>
          <a:xfrm>
            <a:off x="2484360" y="5013360"/>
            <a:ext cx="1370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171720" indent="-17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e. Reduction of appeal-tim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9"/>
          <p:cNvSpPr/>
          <p:nvPr/>
        </p:nvSpPr>
        <p:spPr>
          <a:xfrm>
            <a:off x="684360" y="223992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 Can certain administrative 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0"/>
          <p:cNvSpPr/>
          <p:nvPr/>
        </p:nvSpPr>
        <p:spPr>
          <a:xfrm>
            <a:off x="684360" y="62244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Can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mov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from regulatio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1401840" y="105408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2"/>
          <p:cNvSpPr/>
          <p:nvPr/>
        </p:nvSpPr>
        <p:spPr>
          <a:xfrm>
            <a:off x="684360" y="6310440"/>
            <a:ext cx="1436400" cy="43164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aximum reduction of Administrative burden achie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"/>
          <p:cNvSpPr/>
          <p:nvPr/>
        </p:nvSpPr>
        <p:spPr>
          <a:xfrm>
            <a:off x="684360" y="3033720"/>
            <a:ext cx="1436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 Can certain administrative activities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4"/>
          <p:cNvSpPr/>
          <p:nvPr/>
        </p:nvSpPr>
        <p:spPr>
          <a:xfrm>
            <a:off x="1401840" y="3465360"/>
            <a:ext cx="0" cy="2052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1041480" y="1096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1041480" y="1917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1041480" y="2722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1041480" y="3510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1041480" y="5994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2"/>
          <p:cNvSpPr/>
          <p:nvPr/>
        </p:nvSpPr>
        <p:spPr>
          <a:xfrm>
            <a:off x="684360" y="143820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 Can regulatory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nformation oblig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mplifie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3"/>
          <p:cNvSpPr/>
          <p:nvPr/>
        </p:nvSpPr>
        <p:spPr>
          <a:xfrm>
            <a:off x="1403280" y="1882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4"/>
          <p:cNvSpPr/>
          <p:nvPr/>
        </p:nvSpPr>
        <p:spPr>
          <a:xfrm>
            <a:off x="1401840" y="267480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5"/>
          <p:cNvSpPr/>
          <p:nvPr/>
        </p:nvSpPr>
        <p:spPr>
          <a:xfrm>
            <a:off x="684360" y="5518080"/>
            <a:ext cx="1436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 Is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improvemen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ervice leve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possible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6"/>
          <p:cNvSpPr/>
          <p:nvPr/>
        </p:nvSpPr>
        <p:spPr>
          <a:xfrm>
            <a:off x="1403280" y="5951520"/>
            <a:ext cx="0" cy="358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0"/>
          <p:cNvSpPr/>
          <p:nvPr/>
        </p:nvSpPr>
        <p:spPr>
          <a:xfrm>
            <a:off x="0" y="333360"/>
            <a:ext cx="9144000" cy="1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eps to reduce Administrative Burden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amples of reducing Administrative Burd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9"/>
          <p:cNvSpPr/>
          <p:nvPr/>
        </p:nvSpPr>
        <p:spPr>
          <a:xfrm>
            <a:off x="-16560" y="2844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Tree: Less Administrative burden – Better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fbeelding 2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376280"/>
            <a:ext cx="5045040" cy="332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IRA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Soestdijkseweg Zuid 2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3721 AK Bilth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lp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el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Fax: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+31  (0)30 602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trick van der 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-mail: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P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atrick.vanderpoll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Or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nl-NL" sz="1200" spc="-1" strike="noStrike">
                <a:solidFill>
                  <a:srgbClr val="003399"/>
                </a:solidFill>
                <a:latin typeface="Arial"/>
                <a:ea typeface="Arial"/>
              </a:rPr>
              <a:t>Joland. van.der.heijden@siraconsulting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25:50Z</dcterms:created>
  <dc:creator>peter.bex</dc:creator>
  <dc:description/>
  <dc:language>en-US</dc:language>
  <cp:lastModifiedBy>Patrick van der Poll</cp:lastModifiedBy>
  <cp:lastPrinted>2010-11-26T13:51:40Z</cp:lastPrinted>
  <dcterms:modified xsi:type="dcterms:W3CDTF">2019-02-14T14:35:34Z</dcterms:modified>
  <cp:revision>82</cp:revision>
  <dc:subject/>
  <dc:title>Slide 1</dc:title>
</cp:coreProperties>
</file>